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ct" ContentType="image/x-pict"/>
  <Override PartName="/ppt/media/image11.png" ContentType="image/png"/>
  <Override PartName="/ppt/media/image6.pct" ContentType="image/x-pict"/>
  <Override PartName="/ppt/media/image17.pct" ContentType="image/x-pict"/>
  <Override PartName="/ppt/media/image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530-D5D2-4605-8243-089B583A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5AC-7734-4E20-BFD6-6687B2D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103-E5DC-4683-AC25-69217196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7B0-3FC7-47FD-AED4-1BE5452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8D1-DD57-4BD4-A1E3-DA22B7D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DA1-AB44-438D-A18C-D5C8D51D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FB0-5045-45FC-AD4B-EC68E885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C9B-1B10-43E8-B417-591DBB14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B6C-41BE-453B-8D48-DEB7986C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3EA-B2D3-494D-977A-F2ADCCA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F17-430B-4486-B1BF-599209B2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ADD-2B88-4D13-950E-EB9D04BE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7E1-6DD4-48A1-952E-4E944872F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 Involving Several Risk 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838188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160405000"/>
          <a:stretch/>
        </p:blipFill>
        <p:spPr>
          <a:xfrm>
            <a:off x="380880" y="1447920"/>
            <a:ext cx="8458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478320"/>
            <a:ext cx="8305920" cy="2590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305920" cy="9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782880"/>
            <a:ext cx="830592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305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82880"/>
            <a:ext cx="830592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30592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86600" y="3505320"/>
            <a:ext cx="16765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4742667"/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4280" y="2286000"/>
            <a:ext cx="564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wo Importan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Princip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1095667"/>
          <a:stretch/>
        </p:blipFill>
        <p:spPr>
          <a:xfrm>
            <a:off x="533520" y="749160"/>
            <a:ext cx="79246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226"/>
          <a:stretch/>
        </p:blipFill>
        <p:spPr>
          <a:xfrm>
            <a:off x="685800" y="45720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5791320"/>
            <a:ext cx="15238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39862000"/>
          <a:stretch/>
        </p:blipFill>
        <p:spPr>
          <a:xfrm>
            <a:off x="457200" y="60948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9646000"/>
          <a:stretch/>
        </p:blipFill>
        <p:spPr>
          <a:xfrm>
            <a:off x="609480" y="762120"/>
            <a:ext cx="8001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9247000"/>
          <a:stretch/>
        </p:blipFill>
        <p:spPr>
          <a:xfrm>
            <a:off x="380880" y="457200"/>
            <a:ext cx="83059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4549667"/>
          <a:stretch/>
        </p:blipFill>
        <p:spPr>
          <a:xfrm>
            <a:off x="609480" y="682560"/>
            <a:ext cx="8001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943600"/>
            <a:ext cx="1676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5:01Z</dcterms:created>
  <dc:creator>david g. kleinbaum</dc:creator>
  <dc:description/>
  <dc:language>en-US</dc:language>
  <cp:lastModifiedBy>david g kleinbaum</cp:lastModifiedBy>
  <dcterms:modified xsi:type="dcterms:W3CDTF">2003-10-28T04:08:00Z</dcterms:modified>
  <cp:revision>22</cp:revision>
  <dc:subject/>
  <dc:title>PowerPoint Presentation</dc:title>
</cp:coreProperties>
</file>